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48FF-89A2-4028-85BB-E2CD7137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07C-E06A-4435-8D1E-886648C5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A6F-296E-43E2-89BF-3DB15DF5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D99A-00FB-40DC-8B7E-1B70A3F2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BA2-43C8-4CE9-825F-33E2E806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2DE-DB7B-4A80-BD76-1887B885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108C-6FA3-49B2-B29B-0E3E4854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623-8FD5-4BC6-84C5-3FE70551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AAB-A503-4CFD-A803-6162F066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F5EC-F106-4CA2-96B9-6DB1C83A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2EDF-0BE4-4694-9E57-EB3F2103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945-2B1F-4E72-BF0F-F12710F0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A2E1-0423-4E62-B5F7-D3E59E638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394160" cy="492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Mini-BHKW‘s (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lock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iz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raft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W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r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0920" y="260280"/>
            <a:ext cx="3170160" cy="5400720"/>
            <a:chOff x="250920" y="260280"/>
            <a:chExt cx="3170160" cy="540072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50920" y="260280"/>
              <a:ext cx="23749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flipH="1" flipV="1">
              <a:off x="1547640" y="2708280"/>
              <a:ext cx="1873440" cy="29527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708360" y="1413000"/>
            <a:ext cx="5257800" cy="4903560"/>
            <a:chOff x="3708360" y="1413000"/>
            <a:chExt cx="5257800" cy="490356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796000" y="1413000"/>
              <a:ext cx="3170160" cy="35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580000" y="5300640"/>
              <a:ext cx="338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BHKW‘s erzeu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mic Sans MS"/>
                </a:rPr>
                <a:t>Heizwärme</a:t>
              </a: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 &amp; </a:t>
              </a:r>
              <a:r>
                <a:rPr b="1" lang="de-DE" sz="2400" spc="-1" strike="noStrike">
                  <a:solidFill>
                    <a:srgbClr val="00cc00"/>
                  </a:solidFill>
                  <a:latin typeface="Comic Sans MS"/>
                </a:rPr>
                <a:t>Str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708360" y="3428640"/>
              <a:ext cx="2376360" cy="2087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9:53:15Z</dcterms:created>
  <dc:creator>BZTG</dc:creator>
  <dc:description/>
  <dc:language>en-US</dc:language>
  <cp:lastModifiedBy>BZTG</cp:lastModifiedBy>
  <dcterms:modified xsi:type="dcterms:W3CDTF">2006-10-08T10:49:04Z</dcterms:modified>
  <cp:revision>6</cp:revision>
  <dc:subject/>
  <dc:title>Folie 1</dc:title>
</cp:coreProperties>
</file>