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1.jpeg" ContentType="image/jpeg"/>
  <Override PartName="/ppt/media/image20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14.jpeg" ContentType="image/jpeg"/>
  <Override PartName="/ppt/media/image22.jpeg" ContentType="image/jpeg"/>
  <Override PartName="/ppt/media/image38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15.png" ContentType="image/png"/>
  <Override PartName="/ppt/media/image31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4825" cy="9666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4400" cy="966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036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760" y="-360"/>
            <a:ext cx="29700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010880" y="725400"/>
            <a:ext cx="4832280" cy="3624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Medium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9182160"/>
            <a:ext cx="297036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760" y="9182160"/>
            <a:ext cx="29700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536FB-BB1B-411A-9E35-2E5D9FFEC1F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Ökologische Steuerreform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ini-BHKW wurden im Rahmen der ökologischen Steuerreform als besonders förderungswürdig eingestuf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Während konventionell erzeugte Energie verteuert wurde, erhalten die Betreiber von Mini-BHKWs beträchtliche staatliche Zuschüsse und steuerliche Vorteil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Befreiung von der Stromsteuer: 2,05 Cent/kWh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ür den selbst erzeugten und genutzten Strom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rstattung der Mineralölsteuer: 0,55 Cent/kWh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ür das im BHKW eingesetzte Erdga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ntspricht etwa 15 bis 20 % des Gaspreise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lüssiggas 60,0 €/1000 k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KWK-Modernisierungsgesetz (KWKModG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Bonus von 5,11 Cent/kWh zusätzlich zur gesetzlich festgelegten Vergü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Wird vom örtlichen Energieversorgungsunternehmen gezahl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Zinsgünstige KfW-Kredite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Vergeben von der Kreditanstalt für Wiederaufbau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bäudesanierungsprogramm oder CO2-Minderungsprogramm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ür eine gewerbliche Nutzung Förderung durch das KfW-Umweltprogramm möglich.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insparungen durch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eringere Stromkos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Rückerstattung Mineralölsteu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insparungen ergeben sich aus dem Erlös der Stromproduk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Je höher die Betriebsstundenzahl des Mini-BHKWs im Jahr ist, umso größer ist auch der Erlös aus der Stromproduk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Die patentierte Leistungsmodulation des ecopower Mini-BHKWs ermöglicht eine bis zu 60% höhere Stromproduktion als Geräte mit konstanter Leistung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treiber profitieren von steigenden Strompreis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ingesparte Stromkosten liegen höher als die Einspeisevergü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Hier ergibt sich der Erlös aus der Einsparung, die dadurch erzielt wird, dass der Strom nicht beim Versorger gekauft werden muss.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deutet: Je höher die Preise, desto höher die Einspar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setzlich festgelegte Einspeisevergütung steigt ebenfalls mit dem Strompreis (Stand </a:t>
            </a: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3. Quartal 2005: 4,387 Euro-Cent je Kilowattstunde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leichzeitig muss die produzierte Wärme für einen energiesparenden Betrieb mitgenutzt werd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deutet: Gebäude mit ausreichend hohem ganzjährigen Strom- und Wärmebedarf sind für den Mini-BHKW Einsatz geeigne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Neubau und Modernisierung v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in-, Zwei- und Mehrfamilienhäus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ewerbebetrieb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Hotels, Pensionen und Gasthöf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Fitnessstudios, Gesundheits- und Therapiezentr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Pflege- und Seniorenwohnheim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Kindergärten, Schulen und Sporthall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Verwaltungsgebäud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Weitere Gebäude mit ganzjährigem Strom- und Wärmebedarf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Prinzip der Kraft-Wärme-Koppl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efinition nach §3 KWKModG: „Gleichzeitig Umwandlung von eingesetzter Energie in elektrische Energie und Nutzwärme in einer ortsfesten technischen Anlage“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as-Verbrennungsmotor treibt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enerator zur Stromerzeugung a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echanische Energie des Motors wird </a:t>
            </a:r>
            <a:br>
              <a:rPr sz="1200"/>
            </a:b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n elektrische Energie umgewandelt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Nutzung der entstehenden Abwärme zur Heizung und Warmwasserberei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Plattenwärmetauscher koppeln die </a:t>
            </a:r>
            <a:br>
              <a:rPr sz="1200"/>
            </a:b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m Generator, im Motorkühlwasser </a:t>
            </a:r>
            <a:br>
              <a:rPr sz="1200"/>
            </a:b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und –öl enthaltene Wärme au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Hoher zusätzlicher Wärmegewinn durch Brennwerttechnik auf Erdgasbasi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Anpassung der Mini-BHKW-Leistung an den tatsächlichen Bedarf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öglich durch variable Motor-Drehzah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Verhindert vorzeitiges Abschalten des Mini-BHKWs aufgrund zu geringer Leistungsanforder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ringere Wartungskosten durch reduzierte Motortak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Wesentlich höhere Anzahl von Betriebsstunden pro Jahr als bei Geräten mit konstanter Drehzah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ührt zu einer ...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Bis zu 60% höhere Stromproduk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Wirtschaftlicher Einsatz auch in Objekten mit geringerem Strom- und Wärmebedarf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Heiz-Diagramm eines Mini-BHKWs mit konstanter Drehzahl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Mini-BHKW liefert nur ein Drittel der maximalen geforderten Leis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Konstante thermische und elektrische Leis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Hohe Taktung des Motors, insbesondere bei geringer Leistungsanforder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Abdeckung der Spitzenlasten mit Heizkess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Heiz-Diagramm eines Mini-BHKWs mit variabler Drehzahl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Dank Modulation können auch niedrigere Wärmemengen durch das Mini-BHKW abgedeckt werd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Thermische und elektrische Leistung sind variab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Wenig Taktung des Motors das sich das Gerät an die Leistungsanforderung anpass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Abdeckung der Spitzenlasten mit Heizkess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Heiz-Diagramm eines Mini-BHKWs mit variabler Drehzahl im monovalenten Betrieb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Die geforderte Wärmemenge kann vollständig durch das Mini-BHKW abgedeckt werd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Kein Spitzenlastkessel nöti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Thermische und elektrische Leistung sind variab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Wenig Taktung des Motors das sich das Gerät an die Leistungsanforderung anpass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ffizientes und kostensparendes System für dezentrale Strom- und Wärmeerzeug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Heizung, Warmwasser und Strom </a:t>
            </a:r>
            <a:br>
              <a:rPr sz="1200"/>
            </a:b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it einem System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oppelte Nutzung der eingesetzten Energi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Bis zu 60% höhere Stromproduktion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mit patentierter Leistungsmodula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lektrische Leistung </a:t>
            </a:r>
            <a:br>
              <a:rPr sz="1200"/>
            </a:b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von 1,3 bis 4,7 kW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Thermische Leistung </a:t>
            </a:r>
            <a:br>
              <a:rPr sz="1200"/>
            </a:b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von 4,0 bis 12,5 kW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reite Anwendungsmöglichkei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Hohe Wirtschaftlichkei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Hoher Wirkungsgrad über den gesamten Leistungsbereich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Wassergekühlter Permanentmagnet-Generator zur Stromerzeug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irekt am Motorblock befestig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Regelung der Motordrehzahl erfolgt über die Last des Generator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otor nutzt immer das optimale Drehmomen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Nicht über Drosselklappe (siehe Motortechnik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Leistungselektronik mit Pulsweitenmodulier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Nach Drehzahl variierende Wechselspannung des Generators wird in netzsynchronen dreiphasigen Wechselstrom umgerichte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Antriebseinheit des Mini-BHKW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peziell entwickelter, wassergekühlter Gas-Verbrennungsmoto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trieb mit Erdgas oder Flüssigga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Optimales Leistungsvermögen durch immer vollständig geöffnete Drosselklapp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adurch auch im Teillastbetrieb eine maximale Leistungsausbeut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rosselklappe mindert im geschlossenen oder teilgeschlossenen Zustand die Effizienz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Niedrige Emissionswerte durch Drei-Wege-Katalysator mit Lambda-Regel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genwärtig wirkungsvollstes Katalysatorensystem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bgaswerte liegen 50% unter den Vorgaben der TA-Luf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Langlebige und störungsfreie Technik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Hydraulische Stößel erübrigen die Ventileinstell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Verschleißfreier und geräuscharmer Start über den Generato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Reduzierte Wartungskos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nlasser und Batterie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entfall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artungsintensive Bauteile, daher reduzierte Wartungskosten und –aufwand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urch ein genau auf das Startverhalten abgestimmtes Startprogramm ersetz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Erhöhte Betriebssicherhei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essere Widerstandsfähigkeit gegenüber Umwelteinflüss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tartet auch unter erschwerten Einsatzbedingung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z.B. bei stark schwankender Gasqualität, hohem Luftdruck oder extremen Temperatur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azu komm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eutlich sanfteres Startverhal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eringerer Energieverbrauch in der Startphase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Nutzerfreundliche Bedien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Über 4-zeiliges Display mittels Dreh-/Druckknopf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Alle wichtigen Betriebswerte direkt abrufba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Spezielles Wärme- und Schalldämmgehäus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räuscharmer Betrieb und geringe Wärmeverlust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ntspricht höchsten Sicherheitsvorschriften (CE-Zertifiziert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uropa und Deutschland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prüft nach der strengen europäischen Gasgeräterichtlini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Parallelbetrieb mehrerer Mini-BHKW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n Objekten mit höherem Leistungsbedarf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in Geräte übernimmt die Steuerung der nachgeschalteten Mini-BHKWs (Master/Slave-Betrieb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lexible Aufrüstung bei gestiegenem Energiebrauch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Autarke Energieversorgung für netzfreie Gebiet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trieb mit Flüssigga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Sichere Stromversorgung in Netzqualitä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eeignet für Notstromversorg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ini-BHKW arbeitet das ganze Jahr über als Strom- und Wärmeerzeuger und schaltet nur im Bedarfsfall auf den Notstrombetrieb um</a:t>
            </a: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nvestitions-, Betriebs- und Wartungskosten für separates Notstromaggregat entfall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rweiterter Systemumfa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zusätzlich zum ecopower Mini-BHKW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atteriewechselrichter zum Aufbau eines ein- oder dreiphasigen Stromnetze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atterieanlage zur Stromspeicher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Kühler zur Abführung der überschüssigen Wärme, die nicht mehr vom Speicher aufgenommen werden kan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infacher und schneller Zuga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zu einem erfolgversprechenden Geschäftsfeld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ür SHK- und Elektro- Handwerk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Umfassende Unterstütz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n allen Bereichen des BHKW-Geschäft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chulung und Qualifizier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Planungsunterstützung und technische Bera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oftwarepaket für Inbetriebnahme und War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Wettbewerbsvorteil: Patentierte Leistungsmodula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ls einziges Mini-BHKW am Mark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usgereiftes, fortschrittliches Produk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reite Anwendungsmöglichkei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Hohe Leistungsfähigkeit und Zuverlässigkei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rund- bzw. Mittellastabdeckung durch Mini-BHKW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HKW Kann auch außerhalb der Heizperiode mit höchstmöglicher Leistung lauf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bdeckung von Spitzenlasten durch zusätzlichen Heizkess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Wärmespeicher zur Optimierung der BHKW-Leis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i Stromanforderung anfallende Wärme wird im Speicher vorgehalten und später bei Bedarf genutzt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onovalenter Betrieb bei ausreichend großem Pufferspeicher möglich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inbindung in das Stromnetz erfolgt in den meisten Fällen netzparall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ini-Blockheizkraftwerk wird an das lokale Stromnetz angeschlossen und speist überschüssigen Strom ei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Rückspeisezähler wird zusätzlich zum Bezugszähler installiert, damit der eingespeiste Strom vergütet werden kan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Vom Generator erzeugte Wechselspannung variiert je nach der momentanen Motordrehzah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Über die Leistungselektronik wird die Spannung deshalb zunächst gleichgerichte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nd mit dem Aufwärtswandler in eine höhere Ausgangsspannung gewandel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in Wechselrichter mit nachgeschaltetem Netzfilter formt diese in netzsynchronen dreiphasigen Wechselstrom um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nschlussfertige Liefer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lle Verbindungen an der Geräterückwand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infache Anlieferung und Einbringung durch geringes Gewich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200 Kg leichter als der Wettbewerb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ufstellung und Anschlussarbeiten </a:t>
            </a: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wie beim Heizkess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inbindung in die Hydraulik des Heizungssystems,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nstallation einer Gasanlage und Anschluss an die Gasregelstrecke des Mini-BHKW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stallation der Abgasanlag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etzanschluss kann von jedem Elektrofachmann durchgeführt werd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ird mit einer 5 x 1,5 mm²-Leitung über eine allpolige Trennstelle (L1, L2, L3, N) ausgeführ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bgesichert wird die Zuleitung mit 3 x 10 A; falls vom EVU vorgeschrieben, ergänzt durch einen Neutralleiter-Trenn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infache Inbetriebnahme mit ecoServ Softwar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nlagenkonfiguration bei der Anlieferung bereits voreingestell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1995-1998 Produktentwicklung in der Schweiz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m Rahmen des Hybrid-Antriebs für den Smar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ntwickler/Erfinder Herr Daniel Ryhin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Prototyp 1995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1997, 1998 Anpassung an die Marktbedürfnisse (Redesign um das Produkt flexibler einsetzbar zu machen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1998, 1999 Vorseri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1999 Beginn der Serienproduktion in Gera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2000 Valentin Energie- und Umwelttechnik GmbH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Übernahm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2004 PowerPlus Technologies GmbH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tritt als 100%ige Tochter der Vaillant Group die Nachfolge der Valentin Energie- und Umwelttechnik GmbH a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Automatische Anpassung an den Energiebedarf des Objekte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Kein Regelaufwand für den Betreib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rechnung der optimalen Motordrehzahlen nach Heizkurve, zu erwartendem Strombedarf und Außentemperatu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Permanente Auswertung der Betriebsda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Integrierte selbstlernfähige Speicherbewirtschaf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it Brauchwasseraufbereitung und Legionellenschutzfunk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Volle Ausnutzung des Modulationsbereich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uch im Teillastbetrieb Wirkungsgrad von über 90 %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Hoher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igenschutz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ini-BHKW erkennt selbstständig falsche hydraulische Einbind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immt den Betrieb erst wieder auf, wenn der Fehler behoben worden ist.</a:t>
            </a: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ringe Stillstandsverluste durch direkte Ansteuerung des Spitzenlastkessel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aster/Slave-Betrieb mehrerer Anlagen bei höherem Leistungsbedarf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Wartung alle 4000 Betriebsstunden bzw. einmal im Jah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Wechsel von Öl, Filtern und Zündkerze sowie Abgasmess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Komfortable Wartungssoftware ecoServ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bfrage und Anpassung von Betriebszuständen und Anlagenfunktionen per Fernüberwach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Wartungsvertrag für höhere Sicherhei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Kalkulierbare Kosten für Wartung und Instandhal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copower Fachpartn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Qualifiziert und zertifizier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ehrtägige Schul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chrittweise Ausweitung der Kompetenzen möglich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Ausbau der Vertriebsorganisa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ußendienst neu organisier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nzahl der Vertriebsmitarbeiter und der technischen Berater deutlich erhöht</a:t>
            </a: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dividuelle Betreu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chnische Berater in Gera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lächendeckendes Netz von Vertriebsingenieur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Zusammenarbeit mit Vaillan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Vaillant Verkaufsberater zur Kontaktaufnahme und Informa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Vaillant Vertriebsingenieure als kompetente Ansprechpartner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chnische Service-Hotline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ei allen Fragen rund um bereits im Betrieb befindliche Mini-BHKWs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o – Do 7:00 bis 19:00 Uh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r bis 17:00 Uhr; Sa 10:00 bis 17:00 Uhr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 der Heizperiode von September bis April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undesweiter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erkskundendienst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lächendeckendes Netz von Service-Stützpunkten</a:t>
            </a: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törungsbeseitigung, Inbetriebnahme und Wartungsarbei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s geht um die ...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Kontinuierliche Sicherung der Produktqualitä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ls wesentliche Geschäftsbasi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it Hilfe der eigenen Engineering-Kompetenz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azu ...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Überprüfung der Produktleistung unter Einsatzbedingung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n enger Zusammenarbeit mit den Fachpartner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ehleranalys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mplementierung der Ergebnisse in ...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Fortlaufende Produktpfleg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Verbesserung von Leistungsfähigkeit und Zuverlässigkei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Optimierende Produkt-Update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inbau Ölkühler, Software Update, Neuer Abgasschalldämpfer, Reduzierung von Ablagerungen durch beschichtete Ventile, Erhöhung der Lebensdauer der Schwingungsdämpfer, Einbau MES Öldruckschalt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Wesentliche Ziele für dieses Jahr: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Ausbau des Fachpartnernetze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ufbau neuer Handwerksbetriebe als Fachpartn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urch umfassende Betreuung in allen Bereichen des BHKW- Geschäft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infacher, schneller Einstie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abei auch bestehenden Fachpartnern die Vermarktung wesentlich erleichter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Weitere Produktoptimierung nach den Markterforderniss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Regelungstechnik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Technische Verbesserungen (Vereinfachung, weniger Verschleißteile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Optimierung der Produk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rschließung neuer Märkte in Europa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Vorreiter Notstromversorgung: Unabhängige Stromversorgung durch Insellösungen in Gebieten in denen die Stromnetze nicht so zuverlässig / stabil sind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lleinstellung in diesem Mark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Schwimmbad für optimalenStrom- und Wärmebedarf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Flexibler Einsatz durch Leistungsmodula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Vollständige Finanzierung über KfW-Kredi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Problemlose Ergänzung des vorhandenen Gas-Heizkessel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Versorgung mehrerer Haushalt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Zusätzlicher Erlös durch Stromverkauf an die Miet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Hotel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Pension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aststät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Restaurant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coisland Insellösung für abgelegene Objekte ohne Stromnetzversorg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Technologieführer im 5 kW Segment (elektrische Leistung) der dezentralen Energieversorg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Patentierte Leistungsmodula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ortschrittliche Fernwar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Fortschrittliches und ausgereiftes Produk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Qualitätssicherungsprogramm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Produktleistung und –qualität werden fortlaufend kontrolliert und optimier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nge Zusammenarbeit mit den Fachpartner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Bundesweiter Vertrieb über Partnerbetrieb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Netz von autorisierten und qualifizierten Fachbetrieb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Umfassende Herstellerunterstützung (Vertrieb, Marketing, Service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Bäckerei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ärtnereibetrieb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Frisörgeschäft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Verarbeitendes Gewerb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Autohäuser etc.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Fitnessstudio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Pflege- und Seniorenwohnheim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esundheits- und Therapiezentr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Unabhängigkeit und Sicherheit durch „eigenes Stromnetz“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Städtische Schwimmbäd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Kindergärten und Gemeindezentr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Pfarrheim und Kirch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Schulen und Sporthall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Verwaltungsgebäud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Oft Verbundlösungen die zusammen addiert ideale Voraussetzungen bie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Nachhaltigkeit = Zukünftige Generationen sollen die gleichen Möglichkeiten und Voraussetzungen haben wie wir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ilt insbesondere in Bezug auf die zur Verfügung stehenden Ressourcen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Problem: Steigender Energieverbrauch bei gleichzeitig sinkenden Vorräten fossiler Energieträger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ntspricht nicht dem Nachhaltigkeitsgedanken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Noch vorhandene Reserven an fossilen Energieträger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uf Basis des gegenwärtigen Verbrauchs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rdöl - 40 Jahre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as - 66 Jahre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Steinkohle - 250 Jahre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teigt der Verbrauch weiter wie bisher, werden die Vorräte noch früher erschöpft sein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Langfristig wird Energie kostba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ffiziente Energieerzeugung ist daher ein wichtiger Baustein für eine nachhaltige Entwickl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Weiter steigende CO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-Emission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urch die Verbrennung von Kohle, Öl und Erdga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Trotz Kyoto-Protokol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Ziel: Industriestaaten verringern ihre Emissionen der sechs wichtigsten Treibhausgase bis zum Zeitraum 2008 bis 2012 insgesamt um mindestens fünf Prozent gegenüber 1990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Treibhausgase führen zur Aufheizung der Atmosphär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olgen in den nächsten 100 Jahren bei gleichbleibendem Trend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Temperaturerhöhung um 2 bis 5 °C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Meeresspiegel steigen um 10-90 cm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uswirkungen sind heute schon zu spüren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Häufigere Dürren, Stürme und Überschwemmungen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iehe Hochwasser-Katastrophe 2002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iehe New Orlean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Reduktion der Emissionen erforderlich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fragt sind daher Ansätze, die es ermöglichen Energie einzusparen und effizienter zu nutz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Dezentrale Mini-BHKWs reduzieren Primärenergieverbrauch um mehr als ein Dritt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ffizientere Energieerzeugung durch Kraft-Wärme-Koppl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Doppelte Nutzung der eingesetzten Energi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i der Stromerzeugung entstehende Abwärme wird direkt vor Ort genutz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zur Warmwasserbereitung und Heiz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Verluste &lt; 10%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samtwirkungsgrad von über 90%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emgegenüber steh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Hohe Verluste bei der konventionellen Energieversorg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etrennte Erzeugung von Strom und Wärm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tromerzeugung im Großkraftwerk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bwärme ungenutz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urchschnittlicher Wirkungsgrad 37%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azu kommen Leitungs- und Transportverlust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Plus Wärmeerzeugung dezentral mit dem Heizkess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Verluste ca. 40%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i Ŋ(el) von 36% und Ŋ(th) von 85%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samtwirkungsgrad &lt; 60%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Mini-BHKWs tragen zum Klima- und Ressourcenschutz bei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Weniger Energieverbrauch zur Bereitstellung von Strom und Wärm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Nachhaltigere Nutzung der schwindenden Rohstoffvorrät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enken Primärenergieverbrauch um mehr als ein Dritt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ffiziente Brennstoffausnutzung ermöglicht parallel CO</a:t>
            </a:r>
            <a:r>
              <a:rPr b="0" i="1" lang="de-DE" sz="12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-Einsparung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Reduktion der CO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-Emissionen um bis zu 60% möglich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ffektivste Stromerzeugungstechnologie, gemessen an der erreichbaren CO</a:t>
            </a:r>
            <a:r>
              <a:rPr b="0" i="1" lang="de-DE" sz="12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-Minderung pro eingesetztem Euro (ASUE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ini-BHKWs leisten wesentlichen Beitrag zum Umweltschutz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Laut Bundesregierung </a:t>
            </a: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wesentliche Voraussetzung, um die mittel- und langfristigen Klimaschutzziele zu erreichen</a:t>
            </a: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us diesem Grund wird die effiziente Energieerzeugung mit Mini-BHKWs auch von staatlicher Seite geförder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50ED-ECFD-4618-9C26-051E838EE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449240"/>
            <a:ext cx="792504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0EDF-82BD-44AB-B156-88EDC096F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44924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44924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4C7F-A3A3-4A80-997B-747117240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198108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198108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44924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44924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44924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CBE4-5ABD-430F-9180-6ED817AED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0A84F-84D4-4AFA-BEE6-446D82762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6987C-0DA9-4485-A785-D8EDD2671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81143-C872-404B-8480-AFCA637FE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3B2B4-10BE-4408-B9F3-8A60AB5AE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8EAB7-35DE-4F80-B1FD-7E69DE9F1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99072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67AFD-7ABE-44C2-879B-52DCF8B84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444924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029FD-6A3C-4811-860B-DAF6DB707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C987-B10C-4C28-BEB7-BE7880B4F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280" y="444924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E6D06-4678-40A5-BDEF-B7A56098B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4449240"/>
            <a:ext cx="792504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A3AAD-261D-451C-8AA7-B458A5F55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4449240"/>
            <a:ext cx="792504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E0EB1-DF7A-417B-B156-FDDD875BA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444924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280" y="444924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FDB1F-857B-4CFA-93F7-4A0D9F003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8960" y="198108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8800" y="198108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444924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8960" y="444924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8800" y="444924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6581D-1888-422F-8C73-31A844D60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8B8D-D1C0-4E4A-AB20-01F990FDA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C25E-137F-4AD6-8DC0-AC5E29C45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8862-AD5C-4731-B60B-B557DAA95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99072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0246-A9D8-4948-89AE-26C34C7C0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44924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1EFD-EA8E-4ABB-A244-5220D9192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44924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8DA7-C4AD-4A3C-B505-350040CA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449240"/>
            <a:ext cx="792504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75CA-A4E0-4776-AC00-5C39B4DA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Franklin Gothic Medi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Franklin Gothic Medi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Franklin Gothic Medi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BD820-5926-4F28-93C0-30CC1058753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6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49C16-53B2-4C4E-B85E-ED3B09B9200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683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Franklin Gothic Medium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Franklin Gothic Medi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Franklin Gothic Medi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copower Mini-Blockheizkraftwerk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43000" y="2209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Das intelligente System fü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die dezentrale Strom- und Wärmeversorg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3" name=""/>
          <p:cNvSpPr/>
          <p:nvPr/>
        </p:nvSpPr>
        <p:spPr>
          <a:xfrm>
            <a:off x="5198760" y="4495680"/>
            <a:ext cx="315720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Franklin Gothic Medium"/>
              </a:rPr>
              <a:t>PowerPlus Technologies Gmb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Franklin Gothic Medium"/>
              </a:rPr>
              <a:t>Fasaneninsel 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Franklin Gothic Medium"/>
              </a:rPr>
              <a:t>07549 Ge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Franklin Gothic Medium"/>
              </a:rPr>
              <a:t>Tel. 0365-83040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Franklin Gothic Medium"/>
              </a:rPr>
              <a:t>www.ecopower.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219320" y="3552840"/>
            <a:ext cx="358128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Fördermittel nutze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Ökologische Steuerreform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Keine Stromsteuer: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2,05 Cent/kWh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rstattung Mineralölsteuer: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0,55 Cent/kWh (Erdgas)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KWK-Modernisierungsgesetz (KWKModG)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Bonus: 5,11 Cent/kWh zusätzlich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zur gesetzlich festgelegten Vergüt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Zinsgünstige KfW-Kredite 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948280" y="1981080"/>
            <a:ext cx="25862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nergiekosten spare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725" r="0" b="14287"/>
          <a:stretch/>
        </p:blipFill>
        <p:spPr>
          <a:xfrm>
            <a:off x="609480" y="1838160"/>
            <a:ext cx="7925040" cy="48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insatzgebiete ecopower Mini-BHKW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in-, Zwei- und Mehrfamilienhäuse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ewerbebetrieb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Hotels, Pensionen und Gasthöf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itnessstudios, Gesundheits-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und Therapiezentr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flege- und Seniorenwohnheim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Kindergärten, Schulen und Sporthall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erwaltungsgebäud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0" t="6387" r="0" b="0"/>
          <a:stretch/>
        </p:blipFill>
        <p:spPr>
          <a:xfrm>
            <a:off x="5413320" y="2057400"/>
            <a:ext cx="29955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Fortschrittliche und ausgereifte Technik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2209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rodukteigenschaften ecopower Mini-BHKW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Funktionsweise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rinzip der Kraft-Wärme-Koppl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as-Verbrennungsmotor treibt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enerator zur Stromerzeugung a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Nutzung entstehender Abwärme zu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Heizung und Warmwasserbereit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048280" y="1981080"/>
            <a:ext cx="3486240" cy="4205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Hauptkomponenten 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46784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Patentierte Leistungsmodulatio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npassung der Mini-BHKW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Leistung an den tatsächliche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Bedarf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Bis zu 60% höhere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romproduktio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Wirtschaftlicher Einsatz auch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in Objekten mit geringerem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rom- und Wärmebedarf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7089" t="16668" r="11406" b="7691"/>
          <a:stretch/>
        </p:blipFill>
        <p:spPr>
          <a:xfrm>
            <a:off x="4724280" y="1981080"/>
            <a:ext cx="35053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rcRect l="0" t="0" r="0" b="7279"/>
          <a:stretch/>
        </p:blipFill>
        <p:spPr>
          <a:xfrm>
            <a:off x="744480" y="1371600"/>
            <a:ext cx="7637400" cy="52578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Franklin Gothic Medium"/>
              </a:rPr>
              <a:t>Produktionskurve – normales Mini-BHKW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rcRect l="0" t="0" r="0" b="7176"/>
          <a:stretch/>
        </p:blipFill>
        <p:spPr>
          <a:xfrm>
            <a:off x="755640" y="1371600"/>
            <a:ext cx="7626240" cy="52578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Franklin Gothic Medium"/>
              </a:rPr>
              <a:t>Produktionskurve – modulierendes Mini-BHKW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rcRect l="0" t="0" r="0" b="7176"/>
          <a:stretch/>
        </p:blipFill>
        <p:spPr>
          <a:xfrm>
            <a:off x="755640" y="1371600"/>
            <a:ext cx="7626240" cy="52578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Franklin Gothic Medium"/>
              </a:rPr>
              <a:t>Produktionskurve – monovalenter Betrieb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copower Mini-Blockheizkraftwerk (Mini-BHKW)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ffizientes und kostensparendes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ystem für die dezentrale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rom- und Wärmeerzeug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Bis zu 60% höhere Stromproduktio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mit patentierter Leistungsmodulation 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16666" t="0" r="18750" b="0"/>
          <a:stretch/>
        </p:blipFill>
        <p:spPr>
          <a:xfrm>
            <a:off x="5330880" y="1981080"/>
            <a:ext cx="320364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Permanentmagnet-Generator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Hoher Wirkungsgrad übe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esamten Leistungsbereich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Regelung Motordrehzahl erfolgt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über Last des Generators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Leistungselektronik mit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ulsweitenmodulier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876920" y="1981080"/>
            <a:ext cx="3657600" cy="32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Gas-Verbrennungsmotor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ntriebseinheit des Mini-BHKW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Niedrige Emissionswerte durch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Drei-Wege-Katalysator mit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Lambda-Regel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Langlebige und störungsfreie Technik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348160" y="1981080"/>
            <a:ext cx="318636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Powerstart-Funktio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erschleißfreier, geräuscharme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art über den Generato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Reduzierte Wartungskost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nlasser und Batterie entfall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rhöhte Betriebssicherhei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artet unter erschwert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insatzbedingung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876920" y="1981080"/>
            <a:ext cx="3657600" cy="32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rgänzende Produkteigenschafte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Nutzerfreundliche Bedien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pezielles Wärme- und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challdämmgehäus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ntspricht höchsten Sicherheits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orschriften (CE-Zertifiziert)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arallelbetrieb mehrere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Mini-BHKWs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rcRect l="16666" t="0" r="18750" b="0"/>
          <a:stretch/>
        </p:blipFill>
        <p:spPr>
          <a:xfrm>
            <a:off x="5330880" y="1981080"/>
            <a:ext cx="320364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724280" y="2054160"/>
            <a:ext cx="3810240" cy="320364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coisland - Insellösung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utarke Energieversorg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ür netzfreie Gebiet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ichere Stromversorg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in Netzqualitä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eeignet für Notstromversorg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rweiterter Systemumfa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Bieten Sie Ihren Kunden Mehrwert!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143000" y="2209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infacher und schneller Zuga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zu einem neuen Geschäftsfeld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in neues Geschäftsfeld für Fachhandwerker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infacher, schneller Zugang durch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die umfassende Unterstütz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der PowerPlus Technologies GmbH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Wettbewerbsvorteil: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atentierte Leistungsmodulatio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334120" y="1981080"/>
            <a:ext cx="301464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inbindung in die Gebäudetechnik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8382240" cy="4051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Franklin Gothic Medium"/>
              </a:rPr>
              <a:t>Elektrisches Blockschema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rcRect l="0" t="17281" r="0" b="0"/>
          <a:stretch/>
        </p:blipFill>
        <p:spPr>
          <a:xfrm>
            <a:off x="152280" y="1981080"/>
            <a:ext cx="8839440" cy="39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Installation und Inbetriebnahme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rcRect l="0" t="3914" r="7692" b="4757"/>
          <a:stretch/>
        </p:blipFill>
        <p:spPr>
          <a:xfrm>
            <a:off x="457200" y="1676520"/>
            <a:ext cx="769608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Geschichte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1995-1998 Produktentwicklung (Schweiz)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1999 Beginn der Serienproduktion in Gera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2000 Valentin Energie- und Umwelttechnik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2004 PowerPlus Technologies GmbH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799240" y="2057400"/>
            <a:ext cx="2735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Franklin Gothic Medium"/>
              </a:rPr>
              <a:t>Fortschrittliches Steuer- und Regelungssystem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utomatische Anpassung a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nergiebedarf des Objektes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Integrierte selbstlernfähige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peicherbewirtschaft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olle Ausnutzung des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Modulationsbereichs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Hoher Eigenschutz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19481" t="0" r="0" b="0"/>
          <a:stretch/>
        </p:blipFill>
        <p:spPr>
          <a:xfrm>
            <a:off x="4495680" y="2066760"/>
            <a:ext cx="4038840" cy="32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Geringer Wartungsaufwand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Wartung alle 4000 Betriebs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unden bzw. einmal im Jah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Wechsel von Öl, Filtern und Zünd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kerze sowie Abgasmess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Komfortable Wartungs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oftware ecoServ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Wartungsvertrag für höhere Sicherhei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462640" y="1981080"/>
            <a:ext cx="3071880" cy="43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Vertriebsstruktur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copower Fachpartne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usbau der Vertriebsorganisatio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Zusammenarbeit mit Vaillan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094360" y="1981080"/>
            <a:ext cx="31352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Serviceorganisatio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Technische Service-Hotlin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Mo – Do 7:00 bis 19:00 Uh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r bis 17:00 Uh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a 10:00 bis 17:00 Uh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Bundesweiter Werkskundendienst 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örungsbeseitigung, Inbetrieb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nahme und Wartungsarbeit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334120" y="1981080"/>
            <a:ext cx="278136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Qualitätssicherungsprogramm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Kontinuierliche Sicher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der Produktqualitä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Überprüfung Produktleist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unter Einsatzbedingung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ortlaufende Produktpfleg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9000" t="0" r="33003" b="0"/>
          <a:stretch/>
        </p:blipFill>
        <p:spPr>
          <a:xfrm>
            <a:off x="4896000" y="2200320"/>
            <a:ext cx="33336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Perspektive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usbau Fachpartnernetz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Weitere Produktoptimier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nach Markterforderniss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rschließung neuer Märkt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in Europa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298944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insatzgebiete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143000" y="2209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Neubau Einfamilienhaus mit Schwimmbad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3962520" cy="2210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chwimmbad für optimal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rom- und Wärmebedarf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lexibler Einsatz durch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Leistungsmodulatio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ollständige Finanzierung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über KfW-Kredi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1" name=""/>
          <p:cNvSpPr/>
          <p:nvPr/>
        </p:nvSpPr>
        <p:spPr>
          <a:xfrm>
            <a:off x="609480" y="46483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Gesamtwohnflä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943600" y="4648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250 m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9480" y="4876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Wärmebedar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943600" y="4876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63 MW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51055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Selbst produzierter St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5105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23.000 kW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53341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Vermiedene Stromkos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943600" y="5334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2.567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55627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lös aus dem Stromverkau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43600" y="55627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525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9480" y="57913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Gesamtkosteneinspar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943600" y="5791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2.485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9480" y="6019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CO</a:t>
            </a:r>
            <a:r>
              <a:rPr b="1" lang="de-DE" sz="16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-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943600" y="6019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6,5 t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rcRect l="0" t="5807" r="0" b="7077"/>
          <a:stretch/>
        </p:blipFill>
        <p:spPr>
          <a:xfrm>
            <a:off x="4724280" y="1981080"/>
            <a:ext cx="35053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Modernisierung Zweifamilienhaus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41911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roblemlose Ergänzung des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orhandenen Gas-Heizkessels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ersorgung mehrerer Haushalt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Zusätzlicher Erlös durch Strom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erkauf an die Miete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8" name=""/>
          <p:cNvSpPr/>
          <p:nvPr/>
        </p:nvSpPr>
        <p:spPr>
          <a:xfrm>
            <a:off x="609480" y="46483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Gesamtwohnflä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943600" y="4648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330 m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4876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Wärmebedar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943600" y="4876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76 MW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51055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Selbst produzierter St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943600" y="5105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24.000 kW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53341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Vermiedene Stromkos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943600" y="5334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715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55627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lös aus dem Stromverkau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943600" y="55627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1.770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9480" y="57913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Gesamtkosteneinspar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943600" y="5791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2.110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480" y="6019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CO</a:t>
            </a:r>
            <a:r>
              <a:rPr b="1" lang="de-DE" sz="16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-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943600" y="6019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7 t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rcRect l="0" t="6796" r="0" b="0"/>
          <a:stretch/>
        </p:blipFill>
        <p:spPr>
          <a:xfrm>
            <a:off x="4724280" y="1981080"/>
            <a:ext cx="35020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insatz im Freizeitsektor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Hotels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ension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aststätt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Restaurants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"/>
          <p:cNvSpPr/>
          <p:nvPr/>
        </p:nvSpPr>
        <p:spPr>
          <a:xfrm>
            <a:off x="609480" y="46483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Wärmebedar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943600" y="4648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178,9 MW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4876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Betriebsstunden Mini-BH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943600" y="4876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8.224 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51055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sparnis durch Stromeigenverbrau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943600" y="5105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5.133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480" y="53341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lös aus Stromeinspeis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943600" y="5334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81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9480" y="55627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Rückerstattung Mineralölsteu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55627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884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9480" y="57913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Gesamterlös Mini-BH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943600" y="5791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6.098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9480" y="6019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Kosten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943600" y="6019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4.273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9480" y="62485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CO</a:t>
            </a:r>
            <a:r>
              <a:rPr b="1" lang="de-DE" sz="16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-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943600" y="6248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11,7 t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3960" y="4267080"/>
            <a:ext cx="171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ranklin Gothic Medium"/>
              </a:rPr>
              <a:t>Beispiel: </a:t>
            </a:r>
            <a:r>
              <a:rPr b="0" lang="de-DE" sz="1800" spc="-1" strike="noStrike">
                <a:solidFill>
                  <a:srgbClr val="000000"/>
                </a:solidFill>
                <a:latin typeface="Franklin Gothic Medium"/>
              </a:rPr>
              <a:t>Hot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4724280" y="1981080"/>
            <a:ext cx="3505320" cy="22845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PowerPlus Technologies GmbH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Technologieführer im 5 kW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egment (elektrische Leistung)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der dezentralen Energieversorg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ortschrittliches und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usgereiftes Produk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Bundesweiter Vertrieb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über ecopower Fachpartne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410080" y="4267080"/>
            <a:ext cx="3124440" cy="2035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410080" y="1981080"/>
            <a:ext cx="312444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insatz in Gewerbebetriebe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472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Bäckerei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ärtnereibetrieb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risörgeschäft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erarbeitendes Gewerb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utohäuser etc.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46483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Wärmebedar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943600" y="4648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128 MW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480" y="4876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Betriebsstunden Mini-BH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943600" y="4876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5.991 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9480" y="51055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sparnis durch Stromeigenverbrau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943600" y="5105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3.445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9480" y="53341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lös aus Stromeinspeis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943600" y="5334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236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9480" y="55627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Rückerstattung Mineralölsteu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943600" y="55627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590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9480" y="57913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Gesamterlös Mini-BH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943600" y="5791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4.271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6019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Kosten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943600" y="6019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2.938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9480" y="62485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CO</a:t>
            </a:r>
            <a:r>
              <a:rPr b="1" lang="de-DE" sz="16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-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943600" y="6248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7,4 t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0280" y="4267080"/>
            <a:ext cx="21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ranklin Gothic Medium"/>
              </a:rPr>
              <a:t>Beispiel: </a:t>
            </a:r>
            <a:r>
              <a:rPr b="0" lang="de-DE" sz="1800" spc="-1" strike="noStrike">
                <a:solidFill>
                  <a:srgbClr val="000000"/>
                </a:solidFill>
                <a:latin typeface="Franklin Gothic Medium"/>
              </a:rPr>
              <a:t>Tischlere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rcRect l="6817" t="4768" r="7956" b="15436"/>
          <a:stretch/>
        </p:blipFill>
        <p:spPr>
          <a:xfrm>
            <a:off x="4572000" y="1981080"/>
            <a:ext cx="3733920" cy="22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insatz im Gesundheits- und Pflegebereich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57150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itnessstudios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flege- und Seniorenwohnheim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esundheits- und Therapiezentr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46483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Wärmebedar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943600" y="4648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116,7 MW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4876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Betriebsstunden Mini-BH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943600" y="4876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8.014 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09480" y="51055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sparnis durch Stromeigenverbrau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943600" y="5105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5.452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lös aus Stromeinspeis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943600" y="5334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0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55627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Rückerstattung Mineralölsteu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943600" y="55627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857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09480" y="57913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Gesamterlös Mini-BH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943600" y="5791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6.309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9480" y="6019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Kosten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943600" y="6019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4.265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09480" y="62485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CO</a:t>
            </a:r>
            <a:r>
              <a:rPr b="1" lang="de-DE" sz="16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-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943600" y="6248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10,8 t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11560" y="4267080"/>
            <a:ext cx="256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ranklin Gothic Medium"/>
              </a:rPr>
              <a:t>Beispiel: </a:t>
            </a:r>
            <a:r>
              <a:rPr b="0" lang="de-DE" sz="1800" spc="-1" strike="noStrike">
                <a:solidFill>
                  <a:srgbClr val="000000"/>
                </a:solidFill>
                <a:latin typeface="Franklin Gothic Medium"/>
              </a:rPr>
              <a:t>Fitnessstu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4873680" y="1981080"/>
            <a:ext cx="1603440" cy="2286000"/>
          </a:xfrm>
          <a:prstGeom prst="rect">
            <a:avLst/>
          </a:prstGeom>
          <a:ln w="28440">
            <a:solidFill>
              <a:srgbClr val="91b1c6"/>
            </a:solidFill>
            <a:miter/>
          </a:ln>
        </p:spPr>
      </p:pic>
      <p:pic>
        <p:nvPicPr>
          <p:cNvPr id="283" name="" descr=""/>
          <p:cNvPicPr/>
          <p:nvPr/>
        </p:nvPicPr>
        <p:blipFill>
          <a:blip r:embed="rId2"/>
          <a:srcRect l="0" t="0" r="14577" b="0"/>
          <a:stretch/>
        </p:blipFill>
        <p:spPr>
          <a:xfrm>
            <a:off x="6705720" y="1981080"/>
            <a:ext cx="1600200" cy="2286000"/>
          </a:xfrm>
          <a:prstGeom prst="rect">
            <a:avLst/>
          </a:prstGeom>
          <a:ln w="28440">
            <a:solidFill>
              <a:srgbClr val="91b1c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insatz in öffentlichen Einrichtunge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48769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ädtische Schwimmbäde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Kindergärten und Gemeindezentr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farrheim und Kirch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chulen und Sporthall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erwaltungsgebäud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46483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Wärmebedar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943600" y="4648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110,1 MW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4876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Betriebsstunden Mini-BH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943600" y="4876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7.165 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51055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sparnis durch Stromeigenverbrau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943600" y="5105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2.501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09480" y="53341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lös aus Stromeinspeis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943600" y="5334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1.232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9480" y="55627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Rückerstattung Mineralölsteu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5627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657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9480" y="57913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Gesamterlös Mini-BH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943600" y="5791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4.390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9480" y="6019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Kosten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943600" y="6019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2.662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9480" y="62485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CO</a:t>
            </a:r>
            <a:r>
              <a:rPr b="1" lang="de-DE" sz="16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-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43600" y="6248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7,9 t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65120" y="4267080"/>
            <a:ext cx="348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ranklin Gothic Medium"/>
              </a:rPr>
              <a:t>Beispiel: Kirchliche Einricht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0" t="11363" r="0" b="0"/>
          <a:stretch/>
        </p:blipFill>
        <p:spPr>
          <a:xfrm>
            <a:off x="5029200" y="1981080"/>
            <a:ext cx="3276720" cy="22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ffiziente Energieversorgung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143000" y="2209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Mini-BHKWs als vorteilhafte Alternativ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zur getrennten Erzeugung von Strom und Wärm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Nachhaltige Energieversorgung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eigender Energieverbrauch –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inkende Rohstoffvorrät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Noch vorhandene Reserve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n fossilen Energieträger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rdöl - 40 Jahr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as - 66 Jahr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einkohle - 250 Jahr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ffiziente Energieerzeug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ür nachhaltige Entwickl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800600" y="2050920"/>
            <a:ext cx="3657600" cy="25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5882" t="0" r="11764" b="0"/>
          <a:stretch/>
        </p:blipFill>
        <p:spPr>
          <a:xfrm>
            <a:off x="4567320" y="1905120"/>
            <a:ext cx="3967200" cy="41907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Veränderung des Weltklimas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Weiter steigende CO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-Emission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Treibhausgase führen zu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ufheizung der Atmosphär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Temperaturerhöh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um 2 bis 5 °C 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Meeresspiegel steige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um 10-90 cm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Häufigere Dürren, Stürme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und Überschwemmung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nergie effizienter selbst erzeugen 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Mini-BHKWs reduzieren de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rimärenergieverbrauch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um mehr als ein Dritt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Doppelte Nutzung de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ingesetzten Energi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erluste &lt; 10%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Hohe Verluste bei konven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tioneller Energieversorg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etrennte Erzeug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on Strom und Wärm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erluste ca. 40%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426744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Direkten Beitrag zum Umweltschutz leiste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Mini-BHKWs tragen zum Klima-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und Ressourcenschutz bei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Nachhaltigere Nutzung de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chwindenden Rohstoffvorrät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Reduktion der CO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-Emissione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um bis zu 60% möglich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575320" y="1981080"/>
            <a:ext cx="29592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3T08:28:58Z</dcterms:created>
  <dc:creator>Tim Geßler</dc:creator>
  <dc:description/>
  <dc:language>en-US</dc:language>
  <cp:lastModifiedBy>brybicki</cp:lastModifiedBy>
  <dcterms:modified xsi:type="dcterms:W3CDTF">2005-10-27T15:04:05Z</dcterms:modified>
  <cp:revision>69</cp:revision>
  <dc:subject/>
  <dc:title>  </dc:title>
</cp:coreProperties>
</file>